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24.wmf" ContentType="image/x-wmf"/>
  <Override PartName="/ppt/media/image23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64A-0A96-4269-8E7A-49F8BD66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372F-157E-4CF9-A4A6-34FB0338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46C-677A-4DCB-AC3D-EC0FF3CA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CAF0-225C-4096-BF34-F84DC784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F81D-6A80-459B-9E8C-1D70E631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1DA2-9739-4E20-89CD-6F101D59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5B2C-FD4E-423A-BF68-EFDC80A7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8884-9E3F-471B-89EF-665E54C4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C344-B93E-403C-9C84-70BB157B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4280-5E6D-4E76-BB0F-B052796A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5C37-71AA-4E3F-A21F-03FB4215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DD0-89FC-41C2-98FC-5436C1AC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4F70-6C57-4303-8F42-1ADC223E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D532-2EA6-4E66-8E74-0173EF45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4759-4A60-4AC1-AB51-856F8A3A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2B03-2FC3-4DD5-9154-50F5AC5E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F61B-9810-4C2E-9E49-FF98943E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E10-4A87-447B-A5B1-5B9418AE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922-ED63-401F-A9CB-16DF6C0C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D9CD-21FF-4E5F-AB54-DB4397CA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7A4-5A11-4D18-99A3-36C8D20C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AAD-6370-4A26-AED2-602F6BD9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0BD-ADC9-476D-A138-372328CD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129F-0860-46D9-839C-33DD8A79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A67C-CD64-4D46-B7FE-35C45BE498C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DBB6-0D3B-42FF-B892-5D1BA7545F0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neworder.box.sk/subject.php?subject=SMS" TargetMode="External"/><Relationship Id="rId2" Type="http://schemas.openxmlformats.org/officeDocument/2006/relationships/hyperlink" Target="http://neworder.box.sk/user.php?name=The_MadMan" TargetMode="External"/><Relationship Id="rId3" Type="http://schemas.openxmlformats.org/officeDocument/2006/relationships/hyperlink" Target="http://neworder.box.sk/www.computerworld.com/storyba/0,4125,NAV47_STO69064,00.html%22" TargetMode="External"/><Relationship Id="rId4" Type="http://schemas.openxmlformats.org/officeDocument/2006/relationships/hyperlink" Target="http://neworder.box.sk/board.php?did=edge3512" TargetMode="External"/><Relationship Id="rId5" Type="http://schemas.openxmlformats.org/officeDocument/2006/relationships/hyperlink" Target="http://neworder.box.sk/board.php?did=edge3512&amp;newre=0" TargetMode="External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6781680" y="1981080"/>
          <a:ext cx="190512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190512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olíticas de Seguridad en entornos GNU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191120" y="26665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Sancho Ler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slerena@gnusec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4267080"/>
            <a:ext cx="548640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rebuchet MS"/>
              </a:rPr>
              <a:t>"Software Libre" es cuestión de libertad, no de precio. "Free" en "free software" es una palabra que debe ser traducida como "libre" tal como en "libertad de expresión" ("Free speech"); no como "Gratis" como en "cerveza gratuita“ (“Free beer”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s-ES" sz="1200" spc="-1" strike="noStrike">
                <a:solidFill>
                  <a:srgbClr val="ffffff"/>
                </a:solidFill>
                <a:latin typeface="Arial Unicode MS"/>
              </a:rPr>
              <a:t>www.gnu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ftware Abierto vs Software Cer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886200" cy="30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4808520" y="3429000"/>
          <a:ext cx="4335480" cy="32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8520" y="3429000"/>
                    <a:ext cx="43354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NU y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iferentes tecnologí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r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plicaciones fuera de entornos crític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lternativas de bajo cos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uncionalidades más flexib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4589640"/>
            <a:ext cx="22096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32448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vs Práctica en la segu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alta de conocimient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risas y falta de profesionalida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GUI’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apacidad de Organización y de escalabil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s GNU Seguro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ódigo Abier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4589640"/>
            <a:ext cx="22096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 buen día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124080" y="2800440"/>
          <a:ext cx="601992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800440"/>
                    <a:ext cx="601992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5308560"/>
            <a:ext cx="274320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09880" y="2419200"/>
          <a:ext cx="5334120" cy="44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419200"/>
                    <a:ext cx="533412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746440" y="1752480"/>
            <a:ext cx="31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kenwood.c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48120" y="2941560"/>
          <a:ext cx="6095880" cy="39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41560"/>
                    <a:ext cx="609588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8954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securitybase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-53352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124080" y="2282760"/>
          <a:ext cx="6019920" cy="45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282760"/>
                    <a:ext cx="601992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048120" y="160020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canon.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629160" y="2514600"/>
            <a:ext cx="5514840" cy="4343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514600" y="1676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securecreditcard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772160" y="1638360"/>
            <a:ext cx="4371840" cy="5219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238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exodus.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64080" y="1752480"/>
            <a:ext cx="4579920" cy="5105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17640" y="2209680"/>
            <a:ext cx="32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comntel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dic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1. Introduc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2. Políticas de 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Dise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3. Implementa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Arquitectura de redes segu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Seguridad Perime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) Firewall. Netfil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speccion de es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iltr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aden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crip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odul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HA con VRR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24560" y="1952640"/>
            <a:ext cx="4519440" cy="4905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16200" y="2209680"/>
            <a:ext cx="21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fox.d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X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gunas noticias sobre 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ffffff"/>
                </a:solidFill>
                <a:latin typeface="Arial"/>
              </a:rPr>
              <a:t>(neworder.box.s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124080" y="2666880"/>
            <a:ext cx="5791320" cy="4037400"/>
            <a:chOff x="3124080" y="2666880"/>
            <a:chExt cx="5791320" cy="4037400"/>
          </a:xfrm>
        </p:grpSpPr>
        <p:sp>
          <p:nvSpPr>
            <p:cNvPr id="191" name=""/>
            <p:cNvSpPr/>
            <p:nvPr/>
          </p:nvSpPr>
          <p:spPr>
            <a:xfrm>
              <a:off x="3124080" y="2666880"/>
              <a:ext cx="1256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124080" y="2666880"/>
              <a:ext cx="5791320" cy="4037400"/>
              <a:chOff x="3124080" y="2666880"/>
              <a:chExt cx="5791320" cy="4037400"/>
            </a:xfrm>
          </p:grpSpPr>
          <p:sp>
            <p:nvSpPr>
              <p:cNvPr id="193" name=""/>
              <p:cNvSpPr/>
              <p:nvPr/>
            </p:nvSpPr>
            <p:spPr>
              <a:xfrm>
                <a:off x="3124080" y="2666880"/>
                <a:ext cx="5791320" cy="40374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3124080" y="2666880"/>
                <a:ext cx="5791320" cy="4035240"/>
                <a:chOff x="3124080" y="2666880"/>
                <a:chExt cx="5791320" cy="4035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124080" y="2666880"/>
                  <a:ext cx="360" cy="36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3124080" y="2666880"/>
                  <a:ext cx="5791320" cy="4035240"/>
                  <a:chOff x="3124080" y="2666880"/>
                  <a:chExt cx="5791320" cy="4035240"/>
                </a:xfrm>
              </p:grpSpPr>
              <p:grpSp>
                <p:nvGrpSpPr>
                  <p:cNvPr id="197" name=""/>
                  <p:cNvGrpSpPr/>
                  <p:nvPr/>
                </p:nvGrpSpPr>
                <p:grpSpPr>
                  <a:xfrm>
                    <a:off x="3124080" y="2666880"/>
                    <a:ext cx="5791320" cy="930960"/>
                    <a:chOff x="3124080" y="2666880"/>
                    <a:chExt cx="5791320" cy="930960"/>
                  </a:xfrm>
                </p:grpSpPr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124080" y="2666880"/>
                      <a:ext cx="5791320" cy="9309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3124080" y="2666880"/>
                      <a:ext cx="5791320" cy="9309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 security pros learn to beat hackers at their own game</a:t>
                      </a:r>
                      <a:br>
                        <a:rPr sz="1400"/>
                      </a:br>
                      <a:r>
                        <a:rPr b="1" lang="en-US" sz="1000" spc="-1" strike="noStrike" u="sng">
                          <a:solidFill>
                            <a:srgbClr val="800000"/>
                          </a:solidFill>
                          <a:uFillTx/>
                          <a:latin typeface="Verdana"/>
                          <a:hlinkClick r:id="rId1"/>
                        </a:rPr>
                        <a:t>@ SMS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 Mar 14 2002 - 01:26 EST</a:t>
                      </a: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3124080" y="3598560"/>
                    <a:ext cx="5791320" cy="3103560"/>
                    <a:chOff x="3124080" y="3598560"/>
                    <a:chExt cx="5791320" cy="3103560"/>
                  </a:xfrm>
                </p:grpSpPr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3124080" y="3598560"/>
                      <a:ext cx="5791320" cy="31035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3124080" y="3598560"/>
                      <a:ext cx="5791320" cy="31035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2"/>
                        </a:rPr>
                        <a:t>The_MadMa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rites: Corporate security and IT professionals got a chance last week to think like hackers so they could learn how to better prevent unauthorized users from gaining access to their networks.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than a dozen computer specialists from across the country took part in an intensive five-day "boot camp" offered by New York-based Ernst &amp; Young LLP on the defense of enterprise networks. They paid </a:t>
                      </a: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5,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piece for the training here.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3"/>
                        </a:rPr>
                        <a:t>Read Mo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4"/>
                        </a:rPr>
                        <a:t>read comment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0) | </a:t>
                      </a: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5"/>
                        </a:rPr>
                        <a:t>write comment</a:t>
                      </a:r>
                      <a:br>
                        <a:rPr sz="1400"/>
                      </a:b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0" y="4392720"/>
            <a:ext cx="26668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La seguridad no es..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51814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 un firewall “tonto” (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Filtrado Simpl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 tampoco un  Firewall “listo” (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Filtrado de est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0060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200400" y="1752480"/>
          <a:ext cx="457200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752480"/>
                    <a:ext cx="457200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dice (continuación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Seguridad Perimetral (continuac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) IDS. Sn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rquitect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spuest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tegracion de resul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) Secur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) Gestion y monitoriza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R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ptr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IV. Auditorias de Segur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V. Recursos de segur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organiz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276200"/>
          <a:ext cx="602136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76200"/>
                    <a:ext cx="602136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038480" y="1295280"/>
          <a:ext cx="4272120" cy="319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295280"/>
                    <a:ext cx="427212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895480" y="495288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ncionamiento Algorit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quitectura real de re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523880"/>
          <a:ext cx="5867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5867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648320" y="4267080"/>
          <a:ext cx="4081320" cy="24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267080"/>
                    <a:ext cx="40813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581280" y="3581280"/>
            <a:ext cx="426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scripciones técn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838080"/>
            <a:ext cx="4953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estion y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826160" y="533520"/>
          <a:ext cx="431784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6160" y="533520"/>
                    <a:ext cx="43178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2438280"/>
          <a:ext cx="6688080" cy="441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38280"/>
                    <a:ext cx="66880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838080"/>
            <a:ext cx="4953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.. y prá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!/bin/bas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 Checking conectivity with ICMP Ping, VRRPD Companion Scri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VER="11/03/2002 - v1.0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_TIME=$2             # Tiempo de parada entre checks, en segundos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-z $2 ]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_TIME=5          # Si no se especifica, el check es cada 5 segundo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 Obtener el PID de los procesos de VRRPD en memori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LISTA_PROCESOS=`ps -A | grep "vrrpd" | tr -s " " | cut -d " " -f 2`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-z "$LISTA_PROCESOS" ]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No VRRP Daemon running, aborting.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xi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P_DESTINO=$1             # IP de comprobacion, pasada como 1# parametro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COMANDO="`ping -c 1 "$IP_DESTINO" | grep '100% packet loss'`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RES=0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while [ "$RES" -eq 0 ];do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! -z "$COMANDO" ] ;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Ping fail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Shutting down VRRP daemons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kill -s 9 $LISTA_PROCESO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RES=1;els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Debug: Ping ok"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 $SLEEP_TIM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done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295280"/>
          <a:ext cx="38098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38098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. </a:t>
            </a: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troduccion a la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27910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¿ Que es la Seguridad ?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óg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ís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Re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irew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Hosts/Aplicaci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ftware Abierto vs Software Cer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oporte y otros “problemas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47242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23:18Z</dcterms:modified>
  <cp:revision>39</cp:revision>
  <dc:subject/>
  <dc:title>Políticas de Seguridad en entornos GNU</dc:title>
</cp:coreProperties>
</file>