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CE3-6581-4830-B503-48D4BC0F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3B1-B9A0-4925-8CCD-848A7447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67D-CC37-451E-B2ED-CB7FB2E1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8EF-F3AA-4775-AE63-FC349882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80A6-C6BB-4BFC-831B-503AE843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4809-9D93-4B46-A0EE-E9DDCAC3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5854-A4B6-4D86-A6EC-EA8DC74C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B2AF-E368-43EB-A2F1-42D65680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7363-B396-40FF-8431-261BF53F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4325-2401-4EF7-A647-FBF5830C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1B57-5E91-4FA3-BE48-1A4925D6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CEA-2B55-41D0-953E-17C01C60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39AF-BCF6-4B61-84CD-B6542415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9DEC-44F6-4D3A-B9CC-8C911523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99E9-C12C-4965-BFB5-B89D2D72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E5FD-BB93-4D28-8537-7D4CBD9C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CEC6-2578-4C42-AF6F-9DB8BC61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4A4-67C9-45B9-9E89-05D9E7C5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316-9D18-4D22-BC6F-BF46510E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C18-8E44-443B-A0BF-B384DC1F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360-6D41-4121-8F23-2C674905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11FC-A7E8-4616-BB43-31C4CDC8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5E2E-B67D-4AE1-9F94-432CF8C6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ADF-298B-4D6D-A118-9D4D7C16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CF27-FBEB-4A1E-A00F-280AEE641CA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04F0-6D33-4404-8341-FA802EE4562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121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V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76720" y="3284640"/>
            <a:ext cx="5627520" cy="35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GNU vs Recursos 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tes en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17604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$ vs Recursos G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istas de corre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Sopor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ctualizaciones productos de segur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anuales “tecnico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ocumentacion “avanzad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Knowledge 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gunas URL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cert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securiteam.com (bugtr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net-security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ideahamster.com (politic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eworder.box.sk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 (IETF), gener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S 7799 (UK Standard), teoric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pen Source Security Testing Methodology Manual (OSSTMM) (ideahamster.com), auditori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reaking into computer Networks from the Internet (sensepost.com), auditoria/hack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illos de hacking comercial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erramientas “click and go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oros públicos de “hackers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ser un hacker en 21 dia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os comerciales de productos concret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436640"/>
            <a:ext cx="367200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cc"/>
                </a:solidFill>
                <a:latin typeface="Arial Narrow"/>
              </a:rPr>
              <a:t>FiN</a:t>
            </a:r>
            <a:br>
              <a:rPr sz="9600"/>
            </a:br>
            <a:r>
              <a:rPr b="1" lang="es-ES" sz="1800" spc="-1" strike="noStrike">
                <a:solidFill>
                  <a:srgbClr val="ffffcc"/>
                </a:solidFill>
                <a:latin typeface="Arial Narrow"/>
              </a:rPr>
              <a:t>Version 1.0 Marzo/2002</a:t>
            </a:r>
            <a:endParaRPr b="1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92360" y="1484280"/>
          <a:ext cx="4897440" cy="46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4897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4Z</dcterms:modified>
  <cp:revision>34</cp:revision>
  <dc:subject/>
  <dc:title>Políticas de Seguridad en entornos GNU</dc:title>
</cp:coreProperties>
</file>