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4134-E4EA-47B3-99A9-26AE06D3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6E46-737C-486B-AE3C-11CA86EE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4463-223A-4729-99CA-9269EED7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DBF3-F943-420F-8999-C9609479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87E4-C4F8-429B-99E5-49577776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C773-A953-404B-90A1-E59919F0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60C0-CFF2-475A-8FC3-0CF474AC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E46F-0DD7-4F20-B5B4-EE644C08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49BF-88EE-457E-B33D-A74EBD15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5394-FC86-4797-A285-EB4F3397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38F7-61F5-48F4-8F27-6F47F176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57B2-BB96-47EC-B41E-CB00E60F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A717-C931-4FFF-BA72-0DBDA5E7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787F-AA04-4D80-87F0-B72DB353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D9B4-0217-4750-8AFE-341D3CFF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07D2-A584-4F8A-B012-C5C6B5AC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B234-8D55-4B6C-8D0C-4CEE286A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3A3B-BFEA-4D24-9C2F-262C1566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3701-FD88-46D9-8979-105F56CF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0957-4864-4362-9552-E704BA7C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2BF6-2F4C-4578-A955-1F2D1111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2716-38BB-48F5-B5D5-89863C1B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98AE-B2D3-4C10-8F48-5BF169B1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567C-03DA-401D-B06D-667A63D0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F42A-510B-4B96-BAEA-D76EA995E61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B5E4-76A0-45F9-A6D2-E0662A33C1A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480" y="8377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II</a:t>
            </a: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olíticas de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352680" y="3200400"/>
            <a:ext cx="45831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Neces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ecesidad de una Política de Seguridad en una organ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idencia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g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sponibi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181908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Justifica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Justifi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tablece lo que se puede hacer y lo que no, de forma escrita y formal. Se puede leer y es algo escrito y acept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muestra que la empresa se lo quiere tomar en serio. Implica un compromiso con los direc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til frente a una auditoria, sobre todo si se siguen las normaliza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til para demostrar casos de intrusiones o delitos contra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5284800"/>
            <a:ext cx="320040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alisis. Normalización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rmalización y método.           ISO 17799, BS7799, RFC 21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tandard y certif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igurosidad y Méto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cking ”etico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Normalización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rmalización y método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cker vs Administr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Teoría de la “presa”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243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276720" y="3176640"/>
          <a:ext cx="531468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176640"/>
                    <a:ext cx="531468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Ámbit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rsonas implicadas y responsabilidades en el proyec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quipo de segu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rección de la organ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sonal técn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sonal no técn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3856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Ambitos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48120" y="1998720"/>
          <a:ext cx="6095880" cy="45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998720"/>
                    <a:ext cx="609588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dministrador vs Hacker. Teoria de la pre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dentificar peligros. Checkl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idencia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g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sponi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lasificación en niveles de seguridad. Normaliza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Que proteg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formacion comprometida o confide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lanes de negocio, nominas, contratos, listados passwords, informacion de clien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formacion vali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ocumentacion, desarrollos de I+D, historicos y archiv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versiones e infraestruc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nfiguraciones, logs, backups, bbdd, webs, intranets, Acceso a servidores, electrónica y hardware costos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4284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4307040"/>
            <a:ext cx="2743200" cy="230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2971800" y="1846440"/>
          <a:ext cx="6172200" cy="501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846440"/>
                    <a:ext cx="617220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V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confidencia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s no autorizados a información confiden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s públicos a informacion confidencial, por error, mala configuracion o descu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uplantación de usu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a servicios confidenciales (correo, bbdd, servidores de acceso, etc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stalación de caballos de troy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material restring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geniería de seguridad. Mode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ement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antenimiento e incid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fer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4648320"/>
            <a:ext cx="1371600" cy="134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)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integ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dificación indebida de datos (fallo de permis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ta de integridad (borrado o modificación) de da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mposibilidad de idenficar fuente de da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lo en la integridad de bases de dato (corrupc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dificación en archivos de sistema (configuraciones, logs,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rucción o corrupción de backu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ir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material restring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disponibi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ida de servicios externos. (D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gotamiento de recursos (ancho de banda, disco, socket, etc). (DoS o mala config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lo de infraestructuras generales de red (routing, switches, etc). (DoS, fallo, mala configuración o sabotaj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rucción de configuraciones o servicios. (DoS o Sabotaj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infraestructura básica. Sabota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sos historicos: Yahoo, Amazon, eBay, etc. Perdida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Tecnicas varias.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especificacion protoco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gramacion deficiente (buffer overflow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l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los servicios: Fuerza bruta, trojan, o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poofing vario (IP, DNS, etc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ssion hijack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genieria social y acceso fis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DoS y gusa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umen de riesg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a informacion sen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oS y fallos de progra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l uso de recurs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Era un firewall suficiente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Existe algo suficiente por si mismo para garantizar la seguridad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Introduc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eñ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mo llevar esto a la práctic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so de herrami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ISO 17799 y BS 779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RFC 219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range Book (DoD EEUU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ERT Security Guidel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tras guí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ganizando subpoli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mas importantes y comu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so de los recursos del sistema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cuentas de usuario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rotección de la información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legal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general de los sistemas informáticos en producción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backup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control de accesos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ccesos y permisos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física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280" y="3959280"/>
            <a:ext cx="30481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subpolít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ccesos remo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educación en el ámbito de la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revencion y detección de vir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lan de continuidad de nego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assw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perimetral de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subpolíticas (continuació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perimetral interna de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interven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incid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lta disponibilidad y redunda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guardias 24x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itica de gestion de recurso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monitoriz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encriptación y ocultación de in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59984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Clásico Ing. del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971800" y="2158920"/>
          <a:ext cx="5334120" cy="46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158920"/>
                    <a:ext cx="533412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59984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I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124080" y="2971800"/>
          <a:ext cx="5715000" cy="31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971800"/>
                    <a:ext cx="571500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403812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C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697120" y="1981080"/>
          <a:ext cx="6446880" cy="19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1981080"/>
                    <a:ext cx="644688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Que es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e es una Politica de Segu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i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La seguridad obtenida sólo con medios técnicos es limitada”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i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Sin técnica que la respalde, la seguridad es papel mojado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”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stemas informat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rganiz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¿ Que es ?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a Politica de Seguridad no es un firew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Tecnicos: Man in the middle, spoofing, autenticación débil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no tecnicos: Señora de la limpieza, fallos humanos, mal diseño, poco control en la organización.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Kevin Midn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4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¿¡ QUE ES !?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Que es una política de seguridad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usiones varias al respec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 conjunto de documentos, con un orden y una sistematizació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cribe paso a paso los distintos elementos de una politica de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talla riesgos y pelig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mo protegerse frente a esos riesgos, medidas a tomar y detalles de esas medid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medidas tomar frente a posibles incidenc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hacer en el peor de los ca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Que es (IV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a Politica de Seguridad no se vende ni se comp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existen productos que hagan to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seguridad se vende con el mie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riesgo es real, las consecuencias divers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igura del Consultor / Tecnico de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23:11Z</dcterms:modified>
  <cp:revision>33</cp:revision>
  <dc:subject/>
  <dc:title>Políticas de Seguridad en entornos GNU</dc:title>
</cp:coreProperties>
</file>