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76A-B46A-4568-BFDD-741003CC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23B-5D34-43BE-A67C-80B7C7F7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40D-BFDC-4EAE-B397-8A0EC27A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4A5-BF97-4D88-A97B-5ADD7B7C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2A11-ADA3-4D90-A790-3DBF876F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E503-CCEF-4322-908D-04070A65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2313-D993-4052-B109-45117341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87E8-E2C8-41F1-9022-76484348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61AF-8D43-4D8D-84A1-90560B31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6EED-6FFA-4F53-9BEA-207AD54A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B65C-78B6-43DE-98CB-0C7881B8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CE4-F1EC-4F44-831D-6EDB67AA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1D83-832E-4020-9753-79138DBE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4C47-2724-4B38-8FE3-D235D191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9820-827F-4F4C-B4C9-6D8B2C1D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6487-E5B0-48C8-8F66-3AF66059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D85E-AA88-4F55-8450-745CF1B2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A34-9B82-4E87-9FD3-A820535E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ABC-D34D-45AD-AAF2-6A84F862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32C-E6F5-420E-A8CE-3F873388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F68-9DA8-431C-9E28-221F6464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48F6-AA80-4903-9B4F-EA34E278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E34-DF57-4524-84C0-EA01C0E8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AEA-5169-493A-A8A5-59DB4097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5512-63D7-4588-96C8-8B389F48BCF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EE4C-5AED-46E1-8B65-3DA778CC171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I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eces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cesidad de una Política de Seguridad en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190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Justifi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ustif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ablece lo que se puede hacer y lo que no, de forma escrita y formal. Se puede leer y es algo escrito y acept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muestra que la empresa se lo quiere tomar en serio. Implica un compromiso con los dire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frente a una auditoria, sobre todo si se siguen las normaliz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para demostrar casos de intrusiones o delitos contra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284800"/>
            <a:ext cx="32004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alisis. Normalización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.           ISO 17799, BS7799, RFC 21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tandard y cert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gurosidad y Mé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ing ”etic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ormalización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er vs Administr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Teoría de la “presa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3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76720" y="3176640"/>
          <a:ext cx="531468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76640"/>
                    <a:ext cx="53146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Ámbit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sonas implicadas y responsabilidades en el proye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quipo de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rección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no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85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Ambit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8120" y="1998720"/>
          <a:ext cx="6095880" cy="45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98720"/>
                    <a:ext cx="60958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dministrador vs Hacker. Teoria de la 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r peligros. Check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asificación en niveles de seguridad. Normaliz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e proteg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comprometida o confid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lanes de negocio, nominas, contratos, listados passwords, informacion de clie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vali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cumentacion, desarrollos de I+D, historicos y archiv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versiones e infraestruc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figuraciones, logs, backups, bbdd, webs, intranets, Acceso a servidores, electrónica y hardware costos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28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4307040"/>
            <a:ext cx="2743200" cy="23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971800" y="1846440"/>
          <a:ext cx="6172200" cy="50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46440"/>
                    <a:ext cx="61722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confidenci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no autorizados a información confiden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públicos a informacion confidencial, por error, mala configuracion o descu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plantación de usu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servicios confidenciales (correo, bbdd, servidores de acceso, etc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stalación de caballos de troy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geniería de seguridad.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tenimiento e incid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fer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1371600" cy="134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)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integ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indebida de datos (fallo de permis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ta de integridad (borrado o modificación)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osibilidad de idenficar fuente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en la integridad de bases de dato (corrupc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en archivos de sistema (configuraciones, logs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o corrupción de backu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disponi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ida de servicios externos. (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gotamiento de recursos (ancho de banda, disco, socket, etc). (DoS o mala confi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de infraestructuras generales de red (routing, switches, etc). (DoS, fallo, mala configuración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de configuraciones o servicios. (DoS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infraestructura básica. Sabot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sos historicos: Yahoo, Amazon, eBay, etc. Perdid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ecnicas varias.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especificacion protoco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cion deficiente (buffer overflow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los servicios: Fuerza bruta, trojan,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poofing vario (IP, DNS, et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ssion hijac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genieria social y acceso fis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DoS y gus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umen de riesg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informacion sen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S y fallos de progra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l uso de recurs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ra un firewall suficient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xiste algo suficiente por si mismo para garantizar la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Introduc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llevar esto a la práct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ISO 17799 y BS 779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range Book (DoD EEUU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ERT Security Guide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as gu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zando sub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mas importantes y comu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so de los recursos del sistem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uentas de usuario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otección de la informa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legal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general de los sistemas informáticos en produc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backup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ontrol de acce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y permi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físic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3959280"/>
            <a:ext cx="30481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ducación en el ámbito de la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evencion y detección de 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 de continuidad de nego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ass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 (continu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interna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terven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cid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lta disponibilidad y redunda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guardias 24x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itica de gestion de recurso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monitoriz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ncriptación y ocultación de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lásico Ing. de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71800" y="2158920"/>
          <a:ext cx="53341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58920"/>
                    <a:ext cx="53341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124080" y="2971800"/>
          <a:ext cx="571500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971800"/>
                    <a:ext cx="571500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403812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97120" y="1981080"/>
          <a:ext cx="644688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1981080"/>
                    <a:ext cx="64468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es una Politica de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a seguridad obtenida sólo con medios técnicos es limitada”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in técnica que la respalde, la seguridad es papel mojado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”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informa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rganiz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 Que es ?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es un fire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Tecnicos: Man in the middle, spoofing, autenticación débi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no tecnicos: Señora de la limpieza, fallos humanos, mal diseño, poco control en la organización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Kevin Midn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¡ QUE ES !?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Que es una política de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usiones varias al resp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 conjunto de documentos, con un orden y una sistematizaci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cribe paso a paso los distintos elementos de una politica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talla riesgos y pelig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o protegerse frente a esos riesgos, medidas a tomar y detalles de esas medi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medidas tomar frente a posibles incide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hacer en el peor de los c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se vende ni se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existen productos que hagan to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seguridad se vende con el mie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riesgo es real, las consecuencias divers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igura del Consultor / Tecnico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1Z</dcterms:modified>
  <cp:revision>33</cp:revision>
  <dc:subject/>
  <dc:title>Políticas de Seguridad en entornos GNU</dc:title>
</cp:coreProperties>
</file>