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0540-EF09-4B87-84F7-0E56FF471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A8E9-0277-4251-AFC4-D481F582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ED3E-4327-4DEF-8EE6-444C7D773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03D8-5E2F-41FF-AABE-B65826FCA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B1D1-671F-4CA2-9C67-4F0AA4847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5E94-2577-43A3-A8F7-00678C99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C7FF-5FB0-473E-B7FC-F2E76315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E05F-7932-4AA3-ACAD-F143F3E3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DE9A-4B64-4B38-A1AE-CE715D73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DF98-9275-47C9-8C78-4E858659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830C-884C-4E40-BED4-54C56CDB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3051-D41D-4B9E-A135-511ADA6F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53CA-83D2-4971-AFA4-BD06E5A1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7818-2FEC-4B48-A232-08345E57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835F-9C18-4868-B6E2-D29DAA84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96E5-9508-4BEC-9154-6C8BA72BD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93DD-1FA7-4026-80E7-EF76E516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682D-7563-4A35-9BE1-E11D4CA0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BFE2-F105-4C80-A4C9-557C3119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6076-8F21-4450-AEC1-A85B1918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6A2F-C8A9-41CC-B6F3-7768BAF0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E4F6-0F34-404E-8E09-E74321C9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496F-F459-4A5A-AE3B-C5FD6F49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1DD8-C28E-4AC2-AEE9-AAE05B63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F54A-31F8-45B9-A7B3-6C277D8CA22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9ECA-8239-4673-9721-FE6F4487F0D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5640" y="1218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arte V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76720" y="3284640"/>
            <a:ext cx="5627520" cy="35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cursos GNU vs Recursos 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tes en 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ocume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ormas de perder el tiem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4000" y="3716280"/>
            <a:ext cx="176040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cursos $ vs Recursos G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Listas de corre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Soport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Actualizaciones productos de segurida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Manuales “tecnico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Documentacion “avanzada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Knowledge ba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gunas URL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ww.cert.org (gene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ww.securiteam.com (bugtraq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ww.net-security.org (gene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ww.ideahamster.com (politic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eworder.box.sk (gene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 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ocume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RFC 2196 (IETF), general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BS 7799 (UK Standard), teoric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pen Source Security Testing Methodology Manual (OSSTMM) (ideahamster.com), auditori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Breaking into computer Networks from the Internet (sensepost.com), auditoria/hack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 I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ormas de perder el tiem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ursillos de hacking comercial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Herramientas “click and go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Foros públicos de “hackers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omo ser un hacker en 21 dia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ursos comerciales de productos concret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436640"/>
            <a:ext cx="3672000" cy="26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ffffcc"/>
                </a:solidFill>
                <a:latin typeface="Arial Narrow"/>
              </a:rPr>
              <a:t>FiN</a:t>
            </a:r>
            <a:br>
              <a:rPr sz="9600"/>
            </a:br>
            <a:r>
              <a:rPr b="1" lang="es-ES" sz="1800" spc="-1" strike="noStrike">
                <a:solidFill>
                  <a:srgbClr val="ffffcc"/>
                </a:solidFill>
                <a:latin typeface="Arial Narrow"/>
              </a:rPr>
              <a:t>Version 1.0 Marzo/2002</a:t>
            </a:r>
            <a:endParaRPr b="1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492360" y="1484280"/>
          <a:ext cx="4897440" cy="46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484280"/>
                    <a:ext cx="4897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8:55:43Z</dcterms:created>
  <dc:creator>slerena</dc:creator>
  <dc:description/>
  <dc:language>en-US</dc:language>
  <cp:lastModifiedBy>TBBBG</cp:lastModifiedBy>
  <dcterms:modified xsi:type="dcterms:W3CDTF">2002-03-16T03:32:24Z</dcterms:modified>
  <cp:revision>34</cp:revision>
  <dc:subject/>
  <dc:title>Políticas de Seguridad en entornos GNU</dc:title>
</cp:coreProperties>
</file>